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A1D-3C3D-493E-91D8-8AC61D5D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D79-8A10-42C6-AC44-74FB8DFF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6D7-1CD9-4127-99EF-8558AB4E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0D99-1237-49D3-8AB5-DC0F7DB3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71CE-4ED2-4F64-8721-968F6DE0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ADF2-2C5F-4985-A509-8DEAC762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9B14-C199-44FA-94EB-F43C2DC2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8FF5-D83C-4FC9-AEAB-97589C74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46E7-4208-4EEB-91D6-62B1C1F4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970D-C03C-46A0-B6B1-779F4EA3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8062-C780-4815-94B5-9C40C337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F1DB-B378-40F5-9E03-C7DCCF16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BF7D-3539-40BF-BA2A-C89E1CB6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428E-74DF-4E71-A1A3-C274AB23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2506-2781-4503-A74B-21520FBD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3980-0563-4E25-BF78-96E7C8F6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7DD6-39CC-4D20-9E8C-1AB27EF9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08A-CF63-4A6E-8D20-7D0AC912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586-2EF9-40F5-8C55-728CC281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9448-F497-425D-B988-48B34480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D07-6972-4162-B19A-AC27E3C0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73E2-E5B2-4985-9AFE-C20D7382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AD72-CB5B-4926-AF99-EB406EC2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1729-0218-4A2D-858D-56C03325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12FD-61F4-4431-A35A-4587FF185F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F530-D2C7-4E50-A138-0737616E4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lex\Desktop\Send Back to FTP\LO banner art\BIO10NAE_17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2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he Process of Spe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A986-A89D-49A6-B930-82619CB848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6AEE-CE6E-4FDD-863F-25CE12BCA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U-V3OYwwQU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:\Users\Alex\Desktop\Send Back to FTP\LO stills - splash screens\BIO10NAE_24_CTBG.jpg"/>
          <p:cNvPicPr/>
          <p:nvPr/>
        </p:nvPicPr>
        <p:blipFill>
          <a:blip r:embed="rId1"/>
          <a:stretch/>
        </p:blipFill>
        <p:spPr>
          <a:xfrm>
            <a:off x="228600" y="198360"/>
            <a:ext cx="4954680" cy="6354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767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Arial"/>
                <a:ea typeface="Arial"/>
              </a:rPr>
              <a:t>Lesson 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8840" y="321912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.3 The Proces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Spec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Var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Placeholder 2"/>
          <p:cNvSpPr/>
          <p:nvPr/>
        </p:nvSpPr>
        <p:spPr>
          <a:xfrm>
            <a:off x="990720" y="1600200"/>
            <a:ext cx="784836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of the recorded anatomical characteristics appeared in bell-shaped distributions typical of polygenic trai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data indicates that there is great variation of heritable traits among the Galápagos fin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Founders Arr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57200" y="1600200"/>
            <a:ext cx="5486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years ago, a few finches from South America—species M—arrived on one of the Galápagos islands, as shown in the fig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of the founder effect, the gene frequencies of this founding finch population could have differed from those in the South American popu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E:\Batch 1 final art\BIO10NAE_05_17_05_005_LRIM_06.png"/>
          <p:cNvPicPr/>
          <p:nvPr/>
        </p:nvPicPr>
        <p:blipFill>
          <a:blip r:embed="rId1"/>
          <a:stretch/>
        </p:blipFill>
        <p:spPr>
          <a:xfrm>
            <a:off x="5867280" y="1295280"/>
            <a:ext cx="304812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Placeholder 2"/>
          <p:cNvSpPr/>
          <p:nvPr/>
        </p:nvSpPr>
        <p:spPr>
          <a:xfrm>
            <a:off x="5335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Changes in Gene P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33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Placeholder 2"/>
          <p:cNvSpPr/>
          <p:nvPr/>
        </p:nvSpPr>
        <p:spPr>
          <a:xfrm>
            <a:off x="228600" y="1600200"/>
            <a:ext cx="5943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time, populations on each island adapted to local environ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selection could have caused two distinct populations to evolve (A and B), each characterized by a new physical appear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E:\Batch 1 final art\BIO10NAE_05_17_05_005_LRIM_08.png"/>
          <p:cNvPicPr/>
          <p:nvPr/>
        </p:nvPicPr>
        <p:blipFill>
          <a:blip r:embed="rId1"/>
          <a:stretch/>
        </p:blipFill>
        <p:spPr>
          <a:xfrm>
            <a:off x="6324480" y="1676520"/>
            <a:ext cx="264168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Placeholder 2"/>
          <p:cNvSpPr/>
          <p:nvPr/>
        </p:nvSpPr>
        <p:spPr>
          <a:xfrm>
            <a:off x="0" y="838080"/>
            <a:ext cx="9144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Competition and Continued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Placeholder 2"/>
          <p:cNvSpPr/>
          <p:nvPr/>
        </p:nvSpPr>
        <p:spPr>
          <a:xfrm>
            <a:off x="152280" y="1600200"/>
            <a:ext cx="5791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ds that are most different from each other have the highest fit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specialized birds have less competition for f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time, species evolve in a way that increases the differences between them, and new species may evolve (C, D, and 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E:\Batch 1 final art\BIO10NAE_05_17_05_005_LRIM_10.png"/>
          <p:cNvPicPr/>
          <p:nvPr/>
        </p:nvPicPr>
        <p:blipFill>
          <a:blip r:embed="rId1"/>
          <a:stretch/>
        </p:blipFill>
        <p:spPr>
          <a:xfrm>
            <a:off x="6095880" y="1600200"/>
            <a:ext cx="27939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ell Ring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Placeholder 2"/>
          <p:cNvSpPr/>
          <p:nvPr/>
        </p:nvSpPr>
        <p:spPr>
          <a:xfrm>
            <a:off x="457200" y="1905120"/>
            <a:ext cx="8381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at does the term genetic drift mean? What are two examples of genetic drif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Daily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Placeholder 2"/>
          <p:cNvSpPr/>
          <p:nvPr/>
        </p:nvSpPr>
        <p:spPr>
          <a:xfrm>
            <a:off x="457200" y="1905120"/>
            <a:ext cx="83818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 the types of isolation that can lead to the formation of new spe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Spec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Placeholder 2"/>
          <p:cNvSpPr/>
          <p:nvPr/>
        </p:nvSpPr>
        <p:spPr>
          <a:xfrm>
            <a:off x="457200" y="1905120"/>
            <a:ext cx="83818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formation of a new spe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pecies is a population whose members can interbreed and produce fertile offsp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E:\Batch 1 final art\BIO10NAE_05_17_05_005_LRIM_02.png"/>
          <p:cNvPicPr/>
          <p:nvPr/>
        </p:nvPicPr>
        <p:blipFill>
          <a:blip r:embed="rId1"/>
          <a:stretch/>
        </p:blipFill>
        <p:spPr>
          <a:xfrm>
            <a:off x="1440" y="3962520"/>
            <a:ext cx="9142560" cy="2286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Isolating Mechanis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Placeholder 2"/>
          <p:cNvSpPr/>
          <p:nvPr/>
        </p:nvSpPr>
        <p:spPr>
          <a:xfrm>
            <a:off x="380880" y="1600200"/>
            <a:ext cx="830592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oductive isol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ccurs when a population splits into two groups and the two populations no longer interbre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populations become reproductively isolated, they can evolve into two separate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Behavioral Iso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Placeholder 2"/>
          <p:cNvSpPr/>
          <p:nvPr/>
        </p:nvSpPr>
        <p:spPr>
          <a:xfrm>
            <a:off x="380880" y="1600200"/>
            <a:ext cx="8458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havioral iso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ccurs when two populations that are capable of interbreeding develop differences in courtship rituals or other behavi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Bird’s of Paradise Courtship Rit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DU-V3OYwwQ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Geographic Iso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Placeholder 2"/>
          <p:cNvSpPr/>
          <p:nvPr/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ographic isol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ccurs when two populations are separated by geographic barriers such as rivers, mountains, or bodies of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the Kaibab squirrel is a subspecies of the Abert’s squirrel that formed when a small population became isolated on the north rim of the Grand Cany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e gene pools formed, and genetic changes in one group were not passed on to the 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Temporal Iso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Placeholder 2"/>
          <p:cNvSpPr/>
          <p:nvPr/>
        </p:nvSpPr>
        <p:spPr>
          <a:xfrm>
            <a:off x="533520" y="1600200"/>
            <a:ext cx="830556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mporal isol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ppens when two or more species reproduce at different tim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three species of orchid live in the same rain for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pecies has flowers that last only one day and must be pollinated on that day to produce s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the species bloom on different days, they cannot pollinate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228960" y="88416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Testing Natural Selection in Na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Placeholder 2"/>
          <p:cNvSpPr/>
          <p:nvPr/>
        </p:nvSpPr>
        <p:spPr>
          <a:xfrm>
            <a:off x="457200" y="1600200"/>
            <a:ext cx="838188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rwin hypothesized that the Galápagos finches had descended from a common ances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proposed that natural selection shaped the beaks of different bird populations as they became adapted to eat different f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E:\Batch 1 final art\BIO10NAE_05_17_05_005_LRIM_04.png"/>
          <p:cNvPicPr/>
          <p:nvPr/>
        </p:nvPicPr>
        <p:blipFill>
          <a:blip r:embed="rId1"/>
          <a:stretch/>
        </p:blipFill>
        <p:spPr>
          <a:xfrm>
            <a:off x="12600" y="426708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4:26:24Z</dcterms:created>
  <dc:creator>Alex</dc:creator>
  <dc:description/>
  <dc:language>en-US</dc:language>
  <cp:lastModifiedBy>dzahm</cp:lastModifiedBy>
  <dcterms:modified xsi:type="dcterms:W3CDTF">2013-12-09T20:19:44Z</dcterms:modified>
  <cp:revision>43</cp:revision>
  <dc:subject/>
  <dc:title>Slide 1</dc:title>
</cp:coreProperties>
</file>